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F56-EFD4-455D-9E8A-E6F59A3D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9953-A824-414C-ABDA-7203ABAF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E67-0CD2-4F1C-AA85-CA8F3411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B39-20C0-4186-A392-5B0D0D1A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191B-0117-4CB2-A2C2-52C6A9A9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7DFC-EA52-4A96-9FD6-C81E0D8E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5606-A5AC-444E-90A8-F4F6C96F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3ED2-3E4A-46CE-BFA9-8162CFDF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BBD0-E6F9-4173-82AD-87118C05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4048-AEB3-4C06-96DC-696BECF8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5507-A536-46A3-8E70-7DF62B16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D59-44AB-45EC-BC2D-A3ABE2D1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867E-7F0B-46D6-A8D7-E4C7C9E6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98C5-8767-4349-895C-4A003D07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583A-70B7-462E-BCC5-90A953F1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B3B5-402C-4F55-9396-F70EBA6F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25CD-995E-48E6-BF35-2281C25A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F15-ADFB-47F1-83C4-D4B53D40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159-8120-496D-B9D7-C5E9C052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F4C-F71C-4043-896B-C100CC57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F18A-F02A-4B9E-B182-0773332E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8C5-C078-4FF0-A8C8-DC435984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D5E-F50B-4D72-BC94-0351BBAD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D63-4047-4FDC-9BE4-FFB48625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DBE6-3D40-4F6C-B633-13154C8421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3E27-B7F9-4844-B244-787A7EFB81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Genome reannotation: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7339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alatino"/>
              </a:rPr>
              <a:t>Dealing with the atypical, the ambiguous, and the contrary</a:t>
            </a:r>
            <a:endParaRPr b="0" lang="en-US" sz="4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omments for validation flag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Unusual splic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CD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intr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Overlaps transpos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Unconventional translation star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Multiphase ex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DS overlap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icistronic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395280"/>
            <a:ext cx="91440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The dubious annotation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ategorized as problematic/provisiona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escribed using controlled comment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CDS”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Gene prediction only”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ossible gene fragment”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llows capture of the ORF without condoning the gene mod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39116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The dubious transcrip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blematic transcrip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runcated ORF”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upported by single cDNA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ntrolled comments; distinguish between: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runcated ORF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hort CDS relative to cDNA length (stops throughout; no long ORF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hort CDS (previous case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138240"/>
            <a:ext cx="845820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Release 3.2 contributor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Kathy Campbel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ynn Crosb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Beverley Matthew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Andy Schroeder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Brian Bettencour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Yanmei Hua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eyla Bayraktaroglu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avel Hradeck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Gillian Millbur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ima Misra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hris Smith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Eleanor Whitfiel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eili Zha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inglei Zhou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Annotated, but…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transcript classified as problematic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an be exclud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learly flagg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ntrolled comment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runcated ORF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upported by single cDNA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uspect cDNA: possible unspliced intron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Transcript confidence ratings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data typ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2358720"/>
            <a:ext cx="784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DNA data (complete/partial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tein homology/protein domain(s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Gene predicti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lagged as problematic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 system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Yes/no indication for each different level of supporting data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lexible and open-ended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Can be dense and nuanced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Users can easily set different combinations of criteria for bulk data set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DNA and EST data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ranscript structure supporte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UTRs support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DS supported (full-length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DS supported (partial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ranscript overlaps cDNA(s) or EST(s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supporting protein data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Homologous protein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High scoring of similar length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ess similar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Indication of taxonomic range?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mplete protein domain(s) identifie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 cont.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Gene prediction(s)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blematic: [CV]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CDS; possible gene fragmen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runcated CD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ossible pseudogen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DS overlap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 open -ended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Experimental determination of 5’ en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Norther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ORFeome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Microarray expressio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In situ expressio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tein expressio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Dealing with the messy on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llow provisional/problematic annotation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Minimize biases of current knowledg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an exclude from rigorous data set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escribe and categorize using controlled comment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ld into a transcript rating system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Evidence tallying system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Bottom lin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nnotate generously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riteria should not be too stringen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Label the ambiguous and atypica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Define a “problematic” categor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Use a CV to describ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evise a confidence-rating system or an evidence tally system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117360"/>
            <a:ext cx="838224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11T20:07:26Z</dcterms:created>
  <dc:creator>William M. Gelbart</dc:creator>
  <dc:description/>
  <dc:language>en-US</dc:language>
  <cp:lastModifiedBy>William M. Gelbart</cp:lastModifiedBy>
  <dcterms:modified xsi:type="dcterms:W3CDTF">1970-01-14T13:55:46Z</dcterms:modified>
  <cp:revision>13</cp:revision>
  <dc:subject/>
  <dc:title>Drosophila reannotation: Lessons learned</dc:title>
</cp:coreProperties>
</file>